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19T19:19:21.051000000" idx="2">
    <p:pos x="4846" y="1690"/>
    <p:text/>
  </p:cm>
</p:cmLst>
</file>

<file path=ppt/comments/comment23.xml><?xml version="1.0" encoding="utf-8"?>
<p:cmLst xmlns:p="http://schemas.openxmlformats.org/presentationml/2006/main">
  <p:cm authorId="0" dt="2016-08-19T19:19:29.989000000" idx="3">
    <p:pos x="2151" y="537"/>
    <p:text/>
  </p:cm>
</p:cmLst>
</file>

<file path=ppt/comments/comment8.xml><?xml version="1.0" encoding="utf-8"?>
<p:cmLst xmlns:p="http://schemas.openxmlformats.org/presentationml/2006/main">
  <p:cm authorId="0" dt="2016-08-19T19:19:14.706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799E-A290-42D9-ACAC-74003D0CAF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CB9-93B8-45FE-ADCE-05BDC6390C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A27-87F1-4809-ABAF-0EFD61FA8C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508200" y="3516480"/>
            <a:ext cx="453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522600" y="2685960"/>
            <a:ext cx="452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解 方 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7"/>
          <p:cNvSpPr/>
          <p:nvPr/>
        </p:nvSpPr>
        <p:spPr>
          <a:xfrm>
            <a:off x="826920" y="3387600"/>
            <a:ext cx="3743640" cy="2880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27240" y="2494080"/>
            <a:ext cx="70167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：设这个数是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那么它的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倍是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063880" y="4232160"/>
            <a:ext cx="20667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4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70040" y="3637080"/>
            <a:ext cx="3240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－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395440" y="5307120"/>
            <a:ext cx="16318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4735440" y="3378240"/>
            <a:ext cx="3745080" cy="287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37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同侧圆角矩形 18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同侧圆角矩形 19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1522440" y="153972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比这个数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6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517760" y="4784760"/>
            <a:ext cx="26128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4x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÷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÷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433760" y="3378240"/>
            <a:ext cx="43498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左边＝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5x-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×34-34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70-34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=136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方程右边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所以，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方程的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0" descr="男天使副本"/>
          <p:cNvPicPr/>
          <p:nvPr/>
        </p:nvPicPr>
        <p:blipFill>
          <a:blip r:embed="rId3"/>
          <a:stretch/>
        </p:blipFill>
        <p:spPr>
          <a:xfrm>
            <a:off x="7365960" y="993600"/>
            <a:ext cx="1523880" cy="1414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7"/>
          <p:cNvSpPr/>
          <p:nvPr/>
        </p:nvSpPr>
        <p:spPr>
          <a:xfrm>
            <a:off x="5708520" y="777960"/>
            <a:ext cx="1943280" cy="576000"/>
          </a:xfrm>
          <a:prstGeom prst="wedgeRoundRectCallout">
            <a:avLst>
              <a:gd name="adj1" fmla="val 38972"/>
              <a:gd name="adj2" fmla="val 1009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忘了检验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851040" y="1844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计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列每组方程中代表数值最大的字母圈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1184400" y="3213000"/>
            <a:ext cx="70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1"/>
          <p:cNvSpPr/>
          <p:nvPr/>
        </p:nvSpPr>
        <p:spPr>
          <a:xfrm>
            <a:off x="1127160" y="3052800"/>
            <a:ext cx="6985080" cy="13737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中给出了两组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组方程的形式相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知数分别为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观察第一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已知加数越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知加数越大。第二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除数越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除数越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3" name="矩形 10"/>
          <p:cNvSpPr/>
          <p:nvPr/>
        </p:nvSpPr>
        <p:spPr>
          <a:xfrm>
            <a:off x="1187280" y="292428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1"/>
          <p:cNvSpPr/>
          <p:nvPr/>
        </p:nvSpPr>
        <p:spPr>
          <a:xfrm>
            <a:off x="1187280" y="2924280"/>
            <a:ext cx="1473480" cy="601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12"/>
          <p:cNvSpPr/>
          <p:nvPr/>
        </p:nvSpPr>
        <p:spPr>
          <a:xfrm>
            <a:off x="6227640" y="3525840"/>
            <a:ext cx="1657440" cy="600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971640" y="17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398600" y="26370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方程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多少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1"/>
          <p:cNvSpPr/>
          <p:nvPr/>
        </p:nvSpPr>
        <p:spPr>
          <a:xfrm>
            <a:off x="1258920" y="306864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题中可以先把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入原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得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y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变成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y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等式的性质求出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908000" y="2637000"/>
            <a:ext cx="6340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9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转化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9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矩形 15"/>
          <p:cNvSpPr/>
          <p:nvPr/>
        </p:nvSpPr>
        <p:spPr>
          <a:xfrm>
            <a:off x="2195640" y="3114720"/>
            <a:ext cx="424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+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+2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943280" y="198288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01" name="矩形 19"/>
          <p:cNvSpPr/>
          <p:nvPr/>
        </p:nvSpPr>
        <p:spPr>
          <a:xfrm>
            <a:off x="1012680" y="285264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左边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右边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致使计算结果错误。根据等式的性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的两边同时加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仍然成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0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12" name="矩形 14"/>
          <p:cNvSpPr/>
          <p:nvPr/>
        </p:nvSpPr>
        <p:spPr>
          <a:xfrm>
            <a:off x="2050920" y="1836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+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+2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6"/>
          <p:cNvSpPr/>
          <p:nvPr/>
        </p:nvSpPr>
        <p:spPr>
          <a:xfrm>
            <a:off x="2030400" y="407664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+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+18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3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0160" y="24192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根据等式的性质和数量关系列方程解决问题，并能检验方程的解是否正确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方程的解和解方程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936720" y="4173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列方程解决问题的活动中，体验列方程解决问题的价值，增强学好数学的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00000" y="1225440"/>
            <a:ext cx="16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诊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042920" y="2637000"/>
            <a:ext cx="410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br>
              <a:rPr sz="3000"/>
            </a:br>
            <a:br>
              <a:rPr sz="30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：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5219640" y="2589120"/>
            <a:ext cx="4105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正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000"/>
            </a:br>
            <a:br>
              <a:rPr sz="30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：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4360" y="1403280"/>
            <a:ext cx="2922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方程并解答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2050920" y="2133720"/>
            <a:ext cx="4465440" cy="1846080"/>
            <a:chOff x="2050920" y="2133720"/>
            <a:chExt cx="4465440" cy="1846080"/>
          </a:xfrm>
        </p:grpSpPr>
        <p:sp>
          <p:nvSpPr>
            <p:cNvPr id="222" name="Line 6"/>
            <p:cNvSpPr/>
            <p:nvPr/>
          </p:nvSpPr>
          <p:spPr>
            <a:xfrm>
              <a:off x="2050920" y="3068640"/>
              <a:ext cx="44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205092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356364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507492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651636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11"/>
            <p:cNvSpPr/>
            <p:nvPr/>
          </p:nvSpPr>
          <p:spPr>
            <a:xfrm flipV="1" rot="16200000">
              <a:off x="4104000" y="1087560"/>
              <a:ext cx="358920" cy="4465440"/>
            </a:xfrm>
            <a:custGeom>
              <a:avLst/>
              <a:gdLst>
                <a:gd name="textAreaLeft" fmla="*/ 229320 w 358920"/>
                <a:gd name="textAreaRight" fmla="*/ 359280 w 358920"/>
                <a:gd name="textAreaTop" fmla="*/ 116280 h 4465440"/>
                <a:gd name="textAreaBottom" fmla="*/ 4349160 h 44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17"/>
                  </a:lnTo>
                  <a:cubicBezTo>
                    <a:pt x="10800" y="9917"/>
                    <a:pt x="5400" y="10817"/>
                    <a:pt x="0" y="10817"/>
                  </a:cubicBezTo>
                  <a:cubicBezTo>
                    <a:pt x="5400" y="10817"/>
                    <a:pt x="10800" y="11717"/>
                    <a:pt x="10800" y="1261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3708360" y="3429000"/>
              <a:ext cx="201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2.6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2412720" y="213372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995640" y="2133720"/>
              <a:ext cx="93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15"/>
            <p:cNvSpPr/>
            <p:nvPr/>
          </p:nvSpPr>
          <p:spPr>
            <a:xfrm>
              <a:off x="5435280" y="213372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27"/>
          <p:cNvGrpSpPr/>
          <p:nvPr/>
        </p:nvGrpSpPr>
        <p:grpSpPr>
          <a:xfrm>
            <a:off x="2268360" y="4076640"/>
            <a:ext cx="4391280" cy="1546200"/>
            <a:chOff x="2268360" y="4076640"/>
            <a:chExt cx="4391280" cy="1546200"/>
          </a:xfrm>
        </p:grpSpPr>
        <p:sp>
          <p:nvSpPr>
            <p:cNvPr id="233" name="Rectangle 2"/>
            <p:cNvSpPr/>
            <p:nvPr/>
          </p:nvSpPr>
          <p:spPr>
            <a:xfrm>
              <a:off x="3606840" y="407664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2.6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2"/>
            <p:cNvSpPr/>
            <p:nvPr/>
          </p:nvSpPr>
          <p:spPr>
            <a:xfrm>
              <a:off x="3860640" y="5046840"/>
              <a:ext cx="1711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4.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2"/>
            <p:cNvSpPr/>
            <p:nvPr/>
          </p:nvSpPr>
          <p:spPr>
            <a:xfrm>
              <a:off x="2268360" y="4579920"/>
              <a:ext cx="4391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2.6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Rectangle 29"/>
          <p:cNvSpPr/>
          <p:nvPr/>
        </p:nvSpPr>
        <p:spPr>
          <a:xfrm>
            <a:off x="1673280" y="4437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1889280" y="4653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同侧圆角矩形 22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187280" y="1413000"/>
            <a:ext cx="518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解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1940040" y="2884320"/>
            <a:ext cx="5203440" cy="2736720"/>
            <a:chOff x="1940040" y="2884320"/>
            <a:chExt cx="5203440" cy="2736720"/>
          </a:xfrm>
        </p:grpSpPr>
        <p:sp>
          <p:nvSpPr>
            <p:cNvPr id="242" name="Rectangle 7"/>
            <p:cNvSpPr/>
            <p:nvPr/>
          </p:nvSpPr>
          <p:spPr>
            <a:xfrm>
              <a:off x="1940040" y="2920680"/>
              <a:ext cx="4625640" cy="266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2"/>
            <p:cNvSpPr/>
            <p:nvPr/>
          </p:nvSpPr>
          <p:spPr>
            <a:xfrm>
              <a:off x="1940040" y="2884320"/>
              <a:ext cx="520344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方程左边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≠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方程右边</a:t>
              </a:r>
              <a:br>
                <a:rPr sz="3000"/>
              </a:b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所以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是方程的解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同侧圆角矩形 1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55640" y="126828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并求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419120" y="2892600"/>
            <a:ext cx="475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4284720" y="2709720"/>
            <a:ext cx="39592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左边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98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方程右边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所以，</a:t>
            </a:r>
            <a:r>
              <a:rPr b="0" i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的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2120" y="3375000"/>
            <a:ext cx="5370480" cy="1998720"/>
            <a:chOff x="762120" y="3375000"/>
            <a:chExt cx="5370480" cy="1998720"/>
          </a:xfrm>
        </p:grpSpPr>
        <p:sp>
          <p:nvSpPr>
            <p:cNvPr id="250" name="Rectangle 2"/>
            <p:cNvSpPr/>
            <p:nvPr/>
          </p:nvSpPr>
          <p:spPr>
            <a:xfrm>
              <a:off x="762120" y="3375000"/>
              <a:ext cx="388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2"/>
            <p:cNvSpPr/>
            <p:nvPr/>
          </p:nvSpPr>
          <p:spPr>
            <a:xfrm>
              <a:off x="1163520" y="3878280"/>
              <a:ext cx="496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2"/>
            <p:cNvSpPr/>
            <p:nvPr/>
          </p:nvSpPr>
          <p:spPr>
            <a:xfrm>
              <a:off x="1332000" y="4222800"/>
              <a:ext cx="3889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1924200" y="4484880"/>
              <a:ext cx="33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2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98÷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2"/>
            <p:cNvSpPr/>
            <p:nvPr/>
          </p:nvSpPr>
          <p:spPr>
            <a:xfrm>
              <a:off x="1474920" y="4621320"/>
              <a:ext cx="388908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19" descr="13"/>
          <p:cNvPicPr/>
          <p:nvPr/>
        </p:nvPicPr>
        <p:blipFill>
          <a:blip r:embed="rId1"/>
          <a:stretch/>
        </p:blipFill>
        <p:spPr>
          <a:xfrm>
            <a:off x="2556000" y="2093760"/>
            <a:ext cx="365580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同侧圆角矩形 1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9"/>
          <p:cNvGrpSpPr/>
          <p:nvPr/>
        </p:nvGrpSpPr>
        <p:grpSpPr>
          <a:xfrm>
            <a:off x="790560" y="2548080"/>
            <a:ext cx="3428640" cy="2187000"/>
            <a:chOff x="790560" y="2548080"/>
            <a:chExt cx="3428640" cy="2187000"/>
          </a:xfrm>
        </p:grpSpPr>
        <p:sp>
          <p:nvSpPr>
            <p:cNvPr id="260" name="Rectangle 2"/>
            <p:cNvSpPr/>
            <p:nvPr/>
          </p:nvSpPr>
          <p:spPr>
            <a:xfrm>
              <a:off x="1153800" y="3514680"/>
              <a:ext cx="2847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3</a:t>
              </a:r>
              <a:r>
                <a:rPr b="0" lang="zh-CN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4÷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Rectangle 2"/>
            <p:cNvSpPr/>
            <p:nvPr/>
          </p:nvSpPr>
          <p:spPr>
            <a:xfrm>
              <a:off x="790560" y="3054240"/>
              <a:ext cx="3428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200" spc="-1" strike="noStrike">
                  <a:solidFill>
                    <a:srgbClr val="1c1c1c"/>
                  </a:solidFill>
                  <a:latin typeface="Arial"/>
                </a:rPr>
                <a:t>： 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2"/>
            <p:cNvSpPr/>
            <p:nvPr/>
          </p:nvSpPr>
          <p:spPr>
            <a:xfrm>
              <a:off x="2086560" y="4140000"/>
              <a:ext cx="120564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14"/>
            <p:cNvSpPr/>
            <p:nvPr/>
          </p:nvSpPr>
          <p:spPr>
            <a:xfrm>
              <a:off x="863280" y="2548080"/>
              <a:ext cx="246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5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Rectangle 27"/>
          <p:cNvSpPr/>
          <p:nvPr/>
        </p:nvSpPr>
        <p:spPr>
          <a:xfrm>
            <a:off x="135108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并检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987640" y="2276640"/>
            <a:ext cx="504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左边</a:t>
            </a:r>
            <a:r>
              <a:rPr b="1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-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8-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2×8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40-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16</a:t>
            </a:r>
            <a:br>
              <a:rPr sz="3000"/>
            </a:b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                       </a:t>
            </a:r>
            <a:r>
              <a:rPr b="0" lang="en-US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=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4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右边</a:t>
            </a:r>
            <a:br>
              <a:rPr sz="2500"/>
            </a:br>
            <a:r>
              <a:rPr b="0" lang="zh-CN" sz="25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，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方程的解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71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AutoShape 27"/>
          <p:cNvSpPr/>
          <p:nvPr/>
        </p:nvSpPr>
        <p:spPr>
          <a:xfrm>
            <a:off x="6051600" y="1484280"/>
            <a:ext cx="2627280" cy="120024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方程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定要要检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7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矩形 21"/>
          <p:cNvSpPr/>
          <p:nvPr/>
        </p:nvSpPr>
        <p:spPr>
          <a:xfrm>
            <a:off x="625320" y="3645000"/>
            <a:ext cx="82123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等式的性质解方程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598320" y="4365720"/>
            <a:ext cx="8280720" cy="94716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方程解决实际问题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首先要用字母表示未知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然后根据题目中数量之间的相等关系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出一个含有未知数的等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方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解出来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写出答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6"/>
          <p:cNvSpPr/>
          <p:nvPr/>
        </p:nvSpPr>
        <p:spPr>
          <a:xfrm>
            <a:off x="826920" y="1700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971640" y="2565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+5=b+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a=b-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5=b×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÷3=3÷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230880" y="34815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44364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737400" y="42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6737400" y="502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2705040" y="9828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页内容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976480" y="486900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58</a:t>
            </a:r>
            <a:r>
              <a:rPr b="0" lang="zh-CN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＝</a:t>
            </a:r>
            <a:r>
              <a:rPr b="0" lang="en-US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10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2" name="矩形 7"/>
          <p:cNvSpPr/>
          <p:nvPr/>
        </p:nvSpPr>
        <p:spPr>
          <a:xfrm>
            <a:off x="1069920" y="174312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并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C:\Users\Administrator\AppData\Roaming\Tencent\Users\781547643\QQ\WinTemp\RichOle\MV)IH17RXY25UPKZSI)}647.png"/>
          <p:cNvPicPr/>
          <p:nvPr/>
        </p:nvPicPr>
        <p:blipFill>
          <a:blip r:embed="rId3"/>
          <a:stretch/>
        </p:blipFill>
        <p:spPr>
          <a:xfrm>
            <a:off x="2468520" y="2492280"/>
            <a:ext cx="3076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138320" y="1863720"/>
            <a:ext cx="5230800" cy="262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2880" y="2101680"/>
            <a:ext cx="49262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br>
              <a:rPr sz="25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79</a:t>
            </a:r>
            <a:br>
              <a:rPr sz="3600"/>
            </a:br>
            <a:r>
              <a:rPr b="0" lang="zh-CN" sz="36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：</a:t>
            </a:r>
            <a:r>
              <a:rPr b="0" lang="zh-CN" sz="3600" spc="-1" strike="noStrike">
                <a:solidFill>
                  <a:srgbClr val="1c1c1c"/>
                </a:solidFill>
                <a:latin typeface="宋体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79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3786120" y="393552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8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同侧圆角矩形 15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同侧圆角矩形 16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5649840" y="1327320"/>
            <a:ext cx="2160720" cy="1284120"/>
          </a:xfrm>
          <a:prstGeom prst="wedgeRoundRectCallout">
            <a:avLst>
              <a:gd name="adj1" fmla="val -46212"/>
              <a:gd name="adj2" fmla="val 10843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方程的解的过程叫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方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3629160" y="4916520"/>
            <a:ext cx="3528720" cy="1224000"/>
          </a:xfrm>
          <a:prstGeom prst="wedgeRoundRectCallout">
            <a:avLst>
              <a:gd name="adj1" fmla="val -19453"/>
              <a:gd name="adj2" fmla="val -793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方程左右两边相等的未知数的值，叫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程的解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7320" y="2583000"/>
            <a:ext cx="439236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79</a:t>
            </a:r>
            <a:br>
              <a:rPr sz="2800"/>
            </a:b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：</a:t>
            </a:r>
            <a:br>
              <a:rPr sz="2800"/>
            </a:b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79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4248000" y="2205000"/>
            <a:ext cx="5048280" cy="3471840"/>
            <a:chOff x="4248000" y="2205000"/>
            <a:chExt cx="5048280" cy="3471840"/>
          </a:xfrm>
        </p:grpSpPr>
        <p:sp>
          <p:nvSpPr>
            <p:cNvPr id="86" name="AutoShape 6"/>
            <p:cNvSpPr/>
            <p:nvPr/>
          </p:nvSpPr>
          <p:spPr>
            <a:xfrm>
              <a:off x="4248000" y="2205000"/>
              <a:ext cx="4651560" cy="33847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"/>
            <p:cNvSpPr/>
            <p:nvPr/>
          </p:nvSpPr>
          <p:spPr>
            <a:xfrm>
              <a:off x="4481640" y="2592360"/>
              <a:ext cx="4814640" cy="30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1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58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79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方程右边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所以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21</a:t>
              </a: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是方程的解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4827240" y="2382840"/>
              <a:ext cx="2418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方程左边</a:t>
              </a:r>
              <a:r>
                <a:rPr b="0" lang="zh-CN" sz="3000" spc="-1" strike="noStrike">
                  <a:solidFill>
                    <a:srgbClr val="000000"/>
                  </a:solidFill>
                  <a:latin typeface="Calibri"/>
                </a:rPr>
                <a:t>＝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Calibri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58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2402280" y="391176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同侧圆角矩形 13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同侧圆角矩形 14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2689200" y="110340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照下面的样子做实验，再写出等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8"/>
          <p:cNvGrpSpPr/>
          <p:nvPr/>
        </p:nvGrpSpPr>
        <p:grpSpPr>
          <a:xfrm>
            <a:off x="395280" y="3716280"/>
            <a:ext cx="4680000" cy="1800000"/>
            <a:chOff x="395280" y="3716280"/>
            <a:chExt cx="4680000" cy="1800000"/>
          </a:xfrm>
        </p:grpSpPr>
        <p:sp>
          <p:nvSpPr>
            <p:cNvPr id="96" name="Rectangle 2"/>
            <p:cNvSpPr/>
            <p:nvPr/>
          </p:nvSpPr>
          <p:spPr>
            <a:xfrm>
              <a:off x="1763640" y="371628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438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2"/>
            <p:cNvSpPr/>
            <p:nvPr/>
          </p:nvSpPr>
          <p:spPr>
            <a:xfrm>
              <a:off x="395280" y="436392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3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438÷3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2"/>
            <p:cNvSpPr/>
            <p:nvPr/>
          </p:nvSpPr>
          <p:spPr>
            <a:xfrm>
              <a:off x="1960560" y="4940280"/>
              <a:ext cx="167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46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00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同侧圆角矩形 17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同侧圆角矩形 18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368520" y="3571920"/>
            <a:ext cx="5212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左边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3000"/>
            </a:b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146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38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右边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的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1755720" y="155592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并求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JSS98.EPS" descr="id:2147511987;FounderCES"/>
          <p:cNvPicPr/>
          <p:nvPr/>
        </p:nvPicPr>
        <p:blipFill>
          <a:blip r:embed="rId1"/>
          <a:stretch/>
        </p:blipFill>
        <p:spPr>
          <a:xfrm>
            <a:off x="2195640" y="2139840"/>
            <a:ext cx="37782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063960" y="5079960"/>
            <a:ext cx="32115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想的数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x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10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1" name="矩形 7"/>
          <p:cNvSpPr/>
          <p:nvPr/>
        </p:nvSpPr>
        <p:spPr>
          <a:xfrm>
            <a:off x="1069920" y="1743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数游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W14.eps" descr="id:2147512303;FounderCES"/>
          <p:cNvPicPr/>
          <p:nvPr/>
        </p:nvPicPr>
        <p:blipFill>
          <a:blip r:embed="rId3"/>
          <a:stretch/>
        </p:blipFill>
        <p:spPr>
          <a:xfrm>
            <a:off x="674640" y="2781360"/>
            <a:ext cx="299736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W15.eps" descr="id:2147512310;FounderCES"/>
          <p:cNvPicPr/>
          <p:nvPr/>
        </p:nvPicPr>
        <p:blipFill>
          <a:blip r:embed="rId4"/>
          <a:stretch/>
        </p:blipFill>
        <p:spPr>
          <a:xfrm>
            <a:off x="3564000" y="2781360"/>
            <a:ext cx="2752560" cy="1855800"/>
          </a:xfrm>
          <a:prstGeom prst="rect">
            <a:avLst/>
          </a:prstGeom>
          <a:ln w="0">
            <a:noFill/>
          </a:ln>
        </p:spPr>
      </p:pic>
      <p:pic>
        <p:nvPicPr>
          <p:cNvPr id="114" name="W16.eps" descr="id:2147512317;FounderCES"/>
          <p:cNvPicPr/>
          <p:nvPr/>
        </p:nvPicPr>
        <p:blipFill>
          <a:blip r:embed="rId5"/>
          <a:stretch/>
        </p:blipFill>
        <p:spPr>
          <a:xfrm>
            <a:off x="6275520" y="2781360"/>
            <a:ext cx="2647800" cy="1803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187280" y="2349360"/>
            <a:ext cx="25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10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433440" y="2925720"/>
            <a:ext cx="4680000" cy="1079640"/>
            <a:chOff x="433440" y="2925720"/>
            <a:chExt cx="4680000" cy="1079640"/>
          </a:xfrm>
        </p:grpSpPr>
        <p:sp>
          <p:nvSpPr>
            <p:cNvPr id="118" name="Rectangle 2"/>
            <p:cNvSpPr/>
            <p:nvPr/>
          </p:nvSpPr>
          <p:spPr>
            <a:xfrm>
              <a:off x="433440" y="292572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0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6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2"/>
            <p:cNvSpPr/>
            <p:nvPr/>
          </p:nvSpPr>
          <p:spPr>
            <a:xfrm>
              <a:off x="2563920" y="3429000"/>
              <a:ext cx="1432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50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1790640" y="3949560"/>
            <a:ext cx="2636640" cy="1081080"/>
            <a:chOff x="1790640" y="3949560"/>
            <a:chExt cx="2636640" cy="1081080"/>
          </a:xfrm>
        </p:grpSpPr>
        <p:sp>
          <p:nvSpPr>
            <p:cNvPr id="121" name="Rectangle 2"/>
            <p:cNvSpPr/>
            <p:nvPr/>
          </p:nvSpPr>
          <p:spPr>
            <a:xfrm>
              <a:off x="2582640" y="4454280"/>
              <a:ext cx="1700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5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2"/>
            <p:cNvSpPr/>
            <p:nvPr/>
          </p:nvSpPr>
          <p:spPr>
            <a:xfrm>
              <a:off x="1790640" y="3949560"/>
              <a:ext cx="2636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2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50÷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Rectangle 2"/>
          <p:cNvSpPr/>
          <p:nvPr/>
        </p:nvSpPr>
        <p:spPr>
          <a:xfrm>
            <a:off x="3780000" y="2276640"/>
            <a:ext cx="504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左边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10 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5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10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10</a:t>
            </a:r>
            <a:br>
              <a:rPr sz="3000"/>
            </a:b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            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右边</a:t>
            </a:r>
            <a:br>
              <a:rPr sz="2500"/>
            </a:br>
            <a:r>
              <a:rPr b="0" lang="zh-CN" sz="25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，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方程的解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92000" y="3714840"/>
            <a:ext cx="9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26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1665360" y="1577880"/>
            <a:ext cx="3095640" cy="550800"/>
          </a:xfrm>
          <a:prstGeom prst="wedgeRoundRectCallout">
            <a:avLst>
              <a:gd name="adj1" fmla="val -51291"/>
              <a:gd name="adj2" fmla="val 13179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看作一个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45:00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9:41Z</dcterms:modified>
  <cp:revision>319</cp:revision>
  <dc:subject>www.xkb1.com</dc:subject>
  <dc:title>www.xkb1.com</dc:title>
</cp:coreProperties>
</file>